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479-C91B-4114-BEC9-9E556A5B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F48-9ADF-4136-9C58-056263F1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747A0B-E726-4555-BEF5-AC16FB68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50BBFB-A7B0-4FC1-96F5-8D73DEB3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2DC4DA-01D3-4193-8A9B-D43F70C2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5588B0-5993-4A9B-B790-629811B3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547DA0-592F-4D7C-A4E0-04656E03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5420F5-1EE8-48A5-91DD-88494B86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DD2A47-F63F-4866-80B8-F5EEC2D1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1DEEDC-623F-4E56-BB48-55242786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F1D78B-9E42-4A07-8673-131CA5E3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D9469-2571-4E9B-B387-E36A8E51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7F8-8261-41F5-986F-DDD89293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B8EBD-2AE4-4B58-8BC4-52BF3BFD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93518-AD37-4CEE-A7F8-C107AE9C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F4CCB-EA41-45DE-8679-CF881002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C66D2-9253-49C2-B191-D9B9B71A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552CA-2C66-4AC7-B59A-79322134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FA2F9-DED4-4A67-90B0-349CE1F9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FA069-E399-4E49-856E-08F6E939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30052-557B-4493-A4F1-86C9DE34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AA8FE-510F-42EF-BBB4-F7F6B66E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327F2-B228-428A-8461-C49C3F99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A20-37C0-40A1-B48D-90BFD421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4AA93-D3FD-43F0-9E36-32208EB7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E8F53E-B6C2-4BFE-B469-AFAD257D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670228-E39E-40D7-9D0C-5FA61DC6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CB7F8A-B409-409C-804F-61BE94B9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7B651B-9D6A-41CC-BFE7-E8F271B8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7DC900-5EEF-4BF3-B2A8-6CCC610E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B6165D-8172-48FB-ACCB-80D6EB57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D4C76D-6C0B-49AD-94FD-A49CA65C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CE2409-37E3-40A5-8265-60772271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05B48B-2FA5-4BA6-A70E-12F6AC42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991F-1D5B-4531-A3E0-14F71563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2A1B68-B26E-4271-A853-6CC8AC84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9B2021-B292-42CF-8A8D-8AC783DB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D251DE-6D5F-4912-B9C3-F1D5DAAB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C733C-0BDB-43CA-A993-9A67177A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AC2B4-F8D4-4ED7-93E6-B111E92A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8EA2D-4C68-4D34-9C97-5E9A5B1A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81866-EA5A-4BA2-BA84-812F4FE9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1DB56-624D-4D59-9D88-94894677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12280-EB70-4193-826E-FF77C00C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52CBC-4CD3-403A-9EF6-94A71D0B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FB0C-799D-40D9-A3F5-323B70CA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C4053-6B12-4801-BE32-F924A2BC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41181-CF2F-424E-9FFD-285EB119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1744B-E296-4F05-8E1B-632602C5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048B2-12AE-48FB-B1E8-4A1F676B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F60BE-4E6B-4B06-AA9A-DA6BF6EE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FE7CD-542A-4BFD-8D6F-8E1744EE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41AB6-6FC0-4B93-8B2A-DB78B5B2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D1A25-8C6D-44C6-8E4E-CC9B29B0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1F57E-22AC-44BF-A123-042E7F18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B0345-B9FC-45A4-B34B-D79907F7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7E1A-9856-4B34-BE92-DF5EE1B0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C023E-B884-40CB-AC44-7A5F4ABC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031DB-A519-47A2-BA19-89BB52E7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30489-D708-483B-AC50-4C21ED31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E28B4-AA30-4A15-A5C0-029FBCD5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1D15D-D993-49F2-B63A-23005AC8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72C47-BBC4-4ACB-9189-939F4FA9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3336A-D1CB-4D2E-983A-0EE4107E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0DCF6-1060-4471-9086-82FD10D8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ADEA7-15FF-4E97-A5AF-8F5C182D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DBF56-0AE2-411C-920C-E0AE0723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6CA9-5CE5-4A3A-A027-1425C26A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C5046-F303-4EA6-A486-5A282ADF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7E1D3-E76B-4E3C-AD6B-264DBCA5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4702E-1449-404C-9517-1F1FFEC5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A2C5A-81D7-4B4B-8C71-732E3894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BAC7A1-F3C4-4973-823D-9B0E5DB2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B9A97B-90C6-49D3-A23A-9AC4DE4C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C8BB1-8EA7-4364-A9AE-3B72467C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50DD1-14AE-4E3D-8B15-3AA6FF01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1E27E-EE81-425A-8650-8975FBFC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8AF732-CC8E-49B5-9F7E-D9ECA0BC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D72D-A183-4F84-9961-C10A10CF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430A8F-0572-4317-BC1E-828E6988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EC6E75-2D02-4D0B-B554-93BB7935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DBC4C8-4009-4DC5-B90A-27DDF7F2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3FBE8-3D00-4B4A-9FD2-B1C2FF87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4377D6-888C-43F9-911A-44F0DBF0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30922-897D-492B-8923-9EAE0AE4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0F74F-6AB0-4030-BCA4-1A115761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14E81C-BF2A-4CF6-93A4-472EFD76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B066F9-149B-4462-A0C2-EA4A95F5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C3992-FBE2-41DC-BC0D-DA412056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A370-2EF0-42D1-82C3-2EE9FAB5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E02531-E957-4EE4-AFA9-8406A1B3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815E0F-9F48-4F49-B217-CF7E911A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C82439-D2B5-4992-9EB3-731F9B71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B29B88-05C6-49BD-B5E3-E5AA6A34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A0750-258F-4855-A90E-413DD52F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5FF71-D2A0-4E1E-A1AF-FCD232DC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7F7855-DC8E-487C-87A7-B9E8F294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4D52F-FC00-4EBC-B496-C10F109B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9433C4-72E2-47BD-A6C6-4132444B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B14A1-8BF3-45EF-BF8D-1F7A7268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D855-4786-4C99-88F7-13EA4761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194F9-441B-4209-AE9F-51A0B43E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6B9D31-51FE-40FD-AA9F-7E40A053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A3D2AA-32D3-4FC7-B0D1-49F3392D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7D31F8-4402-4CC6-902C-364F5213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CF74F-2EDC-412E-B413-8E55DA8E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677415-B089-4D5B-8973-B59EE50E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057EDF-C379-4890-B5E6-8715D87D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B59FEE-662C-441A-8EA7-0649A4AC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545122-674C-48E9-95B6-4C7AE2C6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EB8C37-6C74-40C1-A3EA-A627B035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57B-78D2-4320-91A5-9B0ABB33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91FF-C523-4BCF-A255-DB36ECA0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BA34C-E5A4-474B-BDA5-8FBEEFC5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D4AB2-92F0-4D91-850F-B691BB67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A42C0E-F42B-481D-BAED-0869C8D3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C89EF0-D707-40C0-AF27-DCE85713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CF9F56-3F39-43E4-BF25-92FE824F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73EA6A-C65C-414F-9F29-85E0D225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5C1AEC-5555-4C4C-BB51-7ECCEC8E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A2181-E3B4-4495-9D20-AB6F7475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FAAC70-656C-48FA-90B8-531AEAFD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F31F0A-D742-498A-9FE1-D20D26CE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6EF6-107A-4230-A97F-9E3D863C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73A160-A6BE-4FF2-82F4-CB82AC69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C9014-0AEA-495B-9659-E7FBA6B9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A9C8BB-C05F-4E56-9E43-47089372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DED522-C782-48E0-A95B-8A980B5F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76A88C-AF4D-4EE2-A6E9-FDA728D1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3029BC-3A43-428C-9BEB-CD9A6A59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48B7C4-8A4B-4392-A555-FC8D0C8F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A193-8105-41AC-B2C8-333CBAEC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635E-C539-4942-87B2-87A86EDF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0CD1-208B-4E1E-811D-025FF1FA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25B39-261A-406E-8A00-2B9DCF67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83D73-06C5-4A78-A5DE-70FDAFC3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44DBA-A331-4D5E-BF80-E3CABA08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EE315-9F9F-49E6-9D00-A696F959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634BA-598C-4C65-B742-05D68F77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75E-7396-4CD0-8C55-47695E7A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B776-A1F4-4DA6-B9AC-D2955E85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9558B-9664-440F-857C-15AA11AC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83F45-0268-420E-8122-BE407E5E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D7AB-F761-4407-9BB5-B4D529E1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B70E2-FA16-425F-B540-1F3C5429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B0231-0334-4FF4-AF7E-C05AABEF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303BC-EAF4-4D8C-B111-8AAAA5D1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5755F-1202-445C-A2EB-DBB358F6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5ECC8-310C-463E-9664-F72928A6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ED5A-A23C-4C3B-8DA4-DB5876F1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80B-0494-4DE0-BCFC-47C71966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188FA-7B67-4A53-8D7C-81E67BBD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B7D68-F325-4A29-BC71-A9D98D72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F4B82-51CA-4453-8052-17235F1C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315AD-5ECA-4155-8371-DF12EF47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95346-C22E-467E-9C1F-A00475AC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E6958-EA00-4CB2-8767-A744D10E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38362-53A6-466F-9005-F68D7727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05309-AADC-40F7-8F37-E37D5128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AB4D9-52AB-454D-BC5D-F657C6DF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34884-6266-44EC-9387-651172E2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EB4-BFCB-43DC-83FF-91165700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EF308-F99D-4FFE-9546-E8AAF0D5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84FF6-63BB-4D6C-8895-66485A37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A4795-D98F-4188-A2D2-F418610E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6684A-992A-45A7-901A-FCA5B00A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626EC-9507-4B42-84C6-A1E46819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F3824-199C-402A-9A38-5EFE08C4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525CA-058F-42DC-98CB-3D19D847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81E96-60AF-4C52-9494-65E2457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ABCF7-C1C8-47DB-A9CE-7049487F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2422D-5696-4052-AE5D-09DD925D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A4D-5A36-4BA0-AB3E-FB8D9A2A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E040E-7A12-44B1-B0AE-E696AE91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764AD-BF30-4E70-9306-1249FA8A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E8CCC-3573-40BD-B92E-E3A470DA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85D28-BAF6-4782-8D7C-239856AE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2500A-6E70-4FDB-B1F3-49DD49F3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C2484-6AB1-4195-828C-66A70088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0F193-584C-41C1-9B4E-CC20BE82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E100B-0839-4FB6-805E-66B4C7DC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41395-6953-46E9-A786-AF9F5DF6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F8B3D-3591-4A61-9FC0-B7E66CFF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DBC-6631-4B21-92E6-748B6A2B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DBEC5-24ED-4200-AC2F-2C6FB88A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B2C60-CCD5-4A87-BFA1-DB03AC05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520AE-BDC6-4984-B585-BDDF87B6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8AB29-8E0C-4189-8D70-C557DCF0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7BABE-83DB-452C-85D9-B4C6F1D7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B69DD-A8BA-4344-A9E3-FC05F540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CD630-2FFD-437E-982D-B1AD1531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F1974-6D7D-424E-9BBC-40FBD5D8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1CE94-4CB3-4BBB-B56E-2C493ED0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646D7-506E-40BC-904C-83BF4F62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E8F-46DF-46D4-AD37-355BA7FA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DCFF5-009E-4AF4-8028-01550CE0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D5113-612A-4869-88BA-D72E21F2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54AB2-C6E8-4664-9238-E90563EC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DEE0D-D61E-49F5-9DC2-2F857708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2FE56-D13F-4F27-A342-524B2E83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7D64F8-906D-4E90-A63C-EAA0FC7A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B291E0-7413-4D89-B344-494F74F2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4ED60E-1E5D-41FB-9AA8-C942314C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321E12-26F6-4094-8B39-E9FBF9EF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DF14C6-A862-4B95-8E1C-B5D95BDE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6E7-BB26-4D4F-88E6-B3DB616F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B8B74D-3049-458D-BBF1-08DEA17A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D1B67F-81B7-42D5-A5DA-B0D5D0B7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86A4E4-A027-4CAD-BBC6-C23E88A2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BADFFE-88D0-4F17-A82F-D821989A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7F3897-DB33-43E1-B717-F254E9B8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015F78-3F14-4AD7-9690-F0309040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38676-13A7-4039-BE96-B8602949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D38008-CE7C-42F2-A582-86A1EAEB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ED9B1E-1BDE-4AFC-9DE5-0F8BB1EC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A1B62C-431A-452B-98C9-020BEB64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3381-F9C3-48F9-A8AE-BE1DBAC635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7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7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7E98-0C3C-43D6-9EFB-DD9B2BC634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2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0460-CB84-4437-8E28-2D4A5077E4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EE2C-6B36-4084-92D8-DF621212F94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9E13-F089-45BC-AE44-118E8F07F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7E73-335A-4314-A3C0-E44B1B6BF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3F6A-1ECE-4DED-94C8-044B995CB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8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9A1C-9243-42B7-B177-16AC92D56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45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49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74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179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91BD-29A2-4160-B8AA-E89CB36C93C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2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2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25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E78B-8AF3-40C8-9EE9-3E491A8E108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0CBC-4121-4C98-843A-5A4B017D08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9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9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9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0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E426-9A99-480D-A098-89073D7B0FF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6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7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2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5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8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5A14-0511-47AD-B71C-F51299C70B0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2CE2-5E80-4213-93C2-B3C500150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BC57-A9C6-4828-89A5-5B52CBDDD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4A8A-B85B-43F8-97B1-E0EC64A64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6096-25C0-418E-B570-484E235D8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A94F-D6CD-4802-9AAE-FDA2C0E4C0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2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2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3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9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7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 Mansion es lujoso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r: Isabella Chrisafidei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 un Jardi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bello j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095880" cy="408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a Piscin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piscina es magnifico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1"/>
          <a:stretch/>
        </p:blipFill>
        <p:spPr>
          <a:xfrm>
            <a:off x="152280" y="327672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331" name="" descr=""/>
          <p:cNvPicPr/>
          <p:nvPr/>
        </p:nvPicPr>
        <p:blipFill>
          <a:blip r:embed="rId2"/>
          <a:stretch/>
        </p:blipFill>
        <p:spPr>
          <a:xfrm>
            <a:off x="5029200" y="22096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w did you like it!!??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pe you liked my show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ios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Cas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casa grande, bonita y magnific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8182080" cy="340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 una coc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 cocina es increi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495324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0" fill="hold"/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ba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el bano es be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2"/>
          <a:stretch/>
        </p:blipFill>
        <p:spPr>
          <a:xfrm>
            <a:off x="1523880" y="2514600"/>
            <a:ext cx="6096240" cy="411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cuatr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 cuatro es fabulo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2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 comedor es bonito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4647960" cy="3722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a sal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la sala es estupendo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371600" y="2413080"/>
            <a:ext cx="63244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patio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patio es fabulos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2057400" y="2525760"/>
            <a:ext cx="624852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gara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garaje es gran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24" name="" descr=""/>
          <p:cNvPicPr/>
          <p:nvPr/>
        </p:nvPicPr>
        <p:blipFill>
          <a:blip r:embed="rId1"/>
          <a:stretch/>
        </p:blipFill>
        <p:spPr>
          <a:xfrm>
            <a:off x="1676520" y="2544840"/>
            <a:ext cx="57909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10:23Z</dcterms:created>
  <dc:creator>chrisafideisisa</dc:creator>
  <dc:description/>
  <dc:language>en-US</dc:language>
  <cp:lastModifiedBy>chrisafideisisa</cp:lastModifiedBy>
  <dcterms:modified xsi:type="dcterms:W3CDTF">2012-10-26T15:31:34Z</dcterms:modified>
  <cp:revision>11</cp:revision>
  <dc:subject/>
  <dc:title>Mi mansion</dc:title>
</cp:coreProperties>
</file>